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627-98D4-43FE-B4B4-7C220C15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5DB-9AFD-42D8-BE6F-7D1C47B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E95-B3B2-4937-BE40-88D7396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26C-2967-4E0B-84EE-ECF1D7A9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AF7-8129-4043-B078-1F10A959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778-7A3D-489A-91DF-3125915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9B2-9AB6-41C2-A03F-EF7F7BC6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93F-9655-4A47-BD8B-267FB20E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DA2-3EA8-4426-822C-EE2E140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AB3-0395-455F-ACD4-E2E0EAA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F8A-3A99-471A-9C62-12C0E2E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4D5-F78F-4349-AC14-A950DDB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C269-8C46-4963-BF0E-6FCF20A1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762120"/>
          <a:ext cx="8763120" cy="594324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0520"/>
                <a:gridCol w="1460520"/>
                <a:gridCol w="1460520"/>
                <a:gridCol w="146052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Grad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ri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8:05-8: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o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Le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ard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:00-9: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Tu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Pre-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Gam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W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:55-10: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J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Ba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87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*Please Check Google Calendar for Available Time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1:50-12: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2:40-1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:30-2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 txBox="1"/>
          <p:nvPr/>
        </p:nvSpPr>
        <p:spPr>
          <a:xfrm>
            <a:off x="533520" y="38160"/>
            <a:ext cx="820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3-5 Computer Lab Schedul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7238880"/>
            <a:ext cx="6553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nch/Plan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9:37Z</dcterms:created>
  <dc:creator> </dc:creator>
  <dc:description/>
  <dc:language>en-US</dc:language>
  <cp:lastModifiedBy> </cp:lastModifiedBy>
  <dcterms:modified xsi:type="dcterms:W3CDTF">2011-08-10T20:45:23Z</dcterms:modified>
  <cp:revision>2</cp:revision>
  <dc:subject/>
  <dc:title>Slide 1</dc:title>
</cp:coreProperties>
</file>